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D13-4373-44FF-9DE1-60FB351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05F-5022-4AEA-9F73-365EAA7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8FE-842D-48DE-B17E-A0506048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AF3-056B-46AA-B491-43A99FB3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B20-E35F-4DE3-AA6B-3F212EA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991-8770-410A-97AD-77666036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B01-1731-409D-8C0A-47C6D86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97E-865A-435A-9578-27989DA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F01-6ECB-478F-9468-CF0EE45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2FD-6425-4A38-AC66-8F84F8D0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DA8-0334-42D8-9360-3F0B99F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C61-2875-4A3B-84E2-45881AB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18EE-118E-4E01-9512-72553824E8F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3 Za svedkov spásy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láva ti na výs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život nový v rad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ať chceš nám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z lásky, Pane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vedkov spásy, Pan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láskavo nás zv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kôr, než dielo doko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ľud mať pri ňom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vojej láske vzácn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končín sveta máme ni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žehnaj sejbu v čas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moci  tvojej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pracovať a dielo doko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ám si z vôle Otc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na kríž, Kriste,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ukázal si k obno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r cesty,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ás tou cestou kríža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ktorej v svete spásy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j dobrý pomôž bojovať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ieru v teba zach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do konca, tam v sláve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, Pane, uč vždy pamä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voja božská m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vo tme svetlo zažín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môcť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u mocou svojho vzkrie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plníš nádej spasenia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6:04:36Z</dcterms:modified>
  <cp:revision>52</cp:revision>
  <dc:subject/>
  <dc:title>Je veľký náš Pán, on slávy je Kráľ Nech do všetkých strán  spev vrúcnych znie chvál.</dc:title>
</cp:coreProperties>
</file>